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1D1-030C-4190-B343-EAE51207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C18-00F3-4101-A2C3-557B9407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EC9-5355-444C-AFAE-37342E3C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82A-BE81-47DC-813B-FC9607B2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E5C-A613-4B13-9E50-15DB3C4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4C8-D66A-4501-B96B-1597F42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4D2-507A-4261-B359-A27EFCA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352-18CD-4EA6-AB38-6BD6BD7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CEB-B096-4889-82C4-1734CB6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725-A184-41D2-BD18-B84198C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5A0-D8AF-4631-A2D6-8D63C56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B06-BFEB-4186-90D9-BA72AEB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FEF-3C48-475B-A7EA-58D58A830F7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Marina</cp:lastModifiedBy>
  <cp:lastPrinted>2012-11-08T15:14:32Z</cp:lastPrinted>
  <dcterms:modified xsi:type="dcterms:W3CDTF">2013-04-12T10:15:33Z</dcterms:modified>
  <cp:revision>21</cp:revision>
  <dc:subject/>
  <dc:title>Diapositiva 1</dc:title>
</cp:coreProperties>
</file>